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1AA1-333F-4A88-B57C-5E9DB293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DD9-C4B4-472B-89BC-D69CFCE0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A01-9F79-4B3F-91F9-BB20BD4C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9DA-9F57-44B7-8006-B690CAEB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9F1-4AAC-4BCE-8333-636ED6BA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F0C-EDC1-4249-9C5D-DCF8020E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9767-8B8D-42F3-B3DF-77C2A4A9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D1B4-61ED-4510-9FEB-699C2942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0D79-711A-4062-97FD-1A277DB2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0E7-5F39-4B6A-AD51-DEBA2A82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D1F-8CE5-4AC5-AF81-084F57F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3DDA-4D3A-438C-889F-EAA979E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9D85-C947-43D0-ACA7-CCCAA07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3A5-6381-4AC6-A1B9-7BBA683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85C0-E908-4168-82BB-7F1F409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B6A0-4530-4713-BA0A-A31BD0E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D808-E161-45F1-83BD-9CEB99B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5AC-7FA7-47FD-A6AE-FD43CB1B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70A4-387D-4A72-8D68-860EE1D6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2969-3EF0-4602-A5A4-77214084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C66D-F4C1-48E7-A5DF-E17C1F45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9441-6EE9-468F-94FE-068601DB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7610-DB2F-4B51-99A6-C19DF5C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D132-4781-4CF9-A0C2-9ED99091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B46-AE23-44D8-A354-B2F8DC3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C353-2791-42B6-96DD-197940C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A8F5-2B0B-4D86-B4B4-CA7E214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4316-7D26-4A1D-8728-14D84FD9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5139-EE03-4EB7-9987-95C9BEA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7AC6-0440-48AD-BE13-AFCBD11B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9378-0D1C-4E70-A1A9-31F63B05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BF39-4FC4-4AC9-912D-D69F67D4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EA5A-0808-4C68-83A5-D8C49FE6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D92B-8B10-48A9-B3C3-4A5E0F8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E9F9-E7D3-420A-B113-BF65A791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97A-C7AC-4CBE-8ED2-FE64D98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71A89-7318-4C0D-BA6E-DBDBA17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53C9F-E85F-4371-8ABA-6E54915F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3E1C-0361-4FD8-BFD9-D6F5738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0081-096F-40A7-A68C-87B2D76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82D4-4EAC-47F7-9F95-BB4F70D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581E-F7AC-4E1B-813E-AF072AB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1202-0ADF-432C-8142-ABF1CE7F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F9B9-CE69-4F85-82C3-5141D0B5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4AA0-869E-41E7-9EE2-8575BC12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58E8-1032-4E6D-AEDE-0E7E7B97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70E-24C0-4EDD-B060-1DFEE9C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7B51-647C-403A-B093-AEECEF7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7A4A-3CA6-423D-B976-7B560FDE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89EC-2AB8-4AD4-8B9D-88665F15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950EA-456C-4C4A-955E-8308D780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2D67-9727-4F5C-A3F4-F391CCD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C0D4-1BF4-4395-9AC9-A3BC74C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1982-54F3-45D7-B4C5-AB64CF8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E967-781D-4D76-8BA6-892270B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E88AA-5F7D-4011-A96F-9F5A7000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D511-C365-4DA2-A5B4-5BEE3FE8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E8C-0AEF-4B50-A82F-D2FC4E3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90B1-ADE3-489C-A2F2-FD19E67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1FE-A279-481F-8580-CE86AFF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677-B943-49F8-961B-C41CA25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D90-A61B-44C3-B40F-1DC4B4F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C5BE-34E4-437A-81A3-214F15723860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4BF3-3A19-4597-9857-B4C791A0572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823-B159-44BA-B377-CFAB6DBA5406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A1D8-CE86-455F-B52C-92D7B7C177A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AFF-01BC-4D4B-B3D5-645B35789F66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7F5C-0ACB-406B-9F47-D0261874FB3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D9F0-F2B4-40A0-9E48-7735AD4D857A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677B-C389-47F2-B6A7-785703E3113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7E0-1E7B-48AB-A224-C650F51CD0A1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3822-66F8-4597-884E-89DE70E87A9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Rockwell Condensed"/>
              </a:rPr>
              <a:t>Critical Care Training for Primary Care Physicia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1760" y="4876560"/>
            <a:ext cx="773244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Pramita Kuruvilla,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Critical Care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June 2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2004 FOCCUS: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F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aming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O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ptions for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itical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are in the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U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nited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S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tat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askforce of the SCCM, ACCP, ATS, AACC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accelerated demand for crit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aby bo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burden of chronic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public demand fo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decreasing numbers of CCU-trained fe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FOCCUS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Only 37% of CCU patients cared for by CCU-trained phys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63% of CCU patients are cared for by PRIMARY CARE M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Critical Care delivery, which has evolved over the last three decades, requires major reorganization, innovative technology, and more effective use of current professional talen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is why primary care physicians need CCU train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Course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Please arrive from and return to clinical duties promptly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3-4:30: Awesome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4:30-6: Sublime Workshops (2 grou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28560" indent="-14580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A: Central Lines/US: 4A Conf Rm 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B: Vents: Noon Conf R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Next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Fantastic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Pimpalicious Megacode on Wednesday ev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ourse Eval: if you do not fill this out, you will be tarred and feath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3:38:19Z</dcterms:created>
  <dc:creator>pkuruvil</dc:creator>
  <dc:description/>
  <dc:language>en-US</dc:language>
  <cp:lastModifiedBy>HCMARTINEZ</cp:lastModifiedBy>
  <dcterms:modified xsi:type="dcterms:W3CDTF">2009-06-02T22:12:59Z</dcterms:modified>
  <cp:revision>7</cp:revision>
  <dc:subject/>
  <dc:title>Critical Care Training for Primary Care Physicians</dc:title>
</cp:coreProperties>
</file>